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D74A-41A5-44D2-B4E2-EC74A988B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C955-853A-473C-9AD0-61F22A8C63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5796-89A8-45F2-8C43-973AFF1FFA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642C-1BEF-4DC3-959A-92519FC881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10BF-B166-4AE6-8162-C6BF895554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F870-5EA8-416E-A680-BF894139B7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CB71-0B7A-49CB-BD1F-89C7C18425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1084-5B17-434B-8DAA-9CABD7AC2F9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A5B6-D8F7-4AB6-9EAC-857553023A7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68D3-7A2B-4410-AE45-052DAAFB6E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4EE5-C1C1-4B86-929A-BE3DF673D1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3574-8C17-4F82-ADB5-17FDB6AE73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6FFB-9153-4A03-81FB-65B40B860E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AEE7-8231-44A3-A8C9-497E70E685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421EE-3497-4CC6-95A8-3CBC98A46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E8457-517C-498C-B80F-8043C9BED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2A3FB-C105-4427-9FA3-91A672E1F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891F6-998C-4B8D-BBEC-2AD3D0AB8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07D11A7-8B19-4F0E-AF84-4EABA9F05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3F50B3-0A0D-4FC8-A1C1-2F9D36892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434A5DE-BFDC-472B-ADBC-0923F7C94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F7EC9A-5D58-4DE8-A665-35098BB3A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520A8A-AFF5-44A5-8C82-E4F41995D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12FF7B-54E0-4141-B67A-E944D1799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D5E525-1BDC-4FFC-A6D9-4D701D41B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B7D25-53A2-4AEA-9DE7-7584AD367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20A6D1-C059-459E-BC41-DA73CE6EB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71951F-7EBB-4311-9205-0FFEE9A37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70BAA3-A13E-4D9C-86A5-42ACEB5CB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19C605A-3142-4434-9EF4-B66888774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BC974E1-8FA0-4A20-B83A-CE04E1BF7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FF982-73EE-40E8-B06D-44ECD8A0C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DCECD-2B69-4AD2-A012-6348CD3C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BB34C-58BB-4588-BF5A-9F2E55368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9560A-3A26-4326-99B2-D37D8A137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F74E-DBF5-4D59-8571-4ECDC16AF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013E-AF6C-42FE-B6D6-029B71F60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9043D-040C-4074-8258-F846E552E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2BDB-188F-4ABC-B62B-CB7A71B0213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1EC2-8E1F-4916-A688-008BCBB26E3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google.com/imgres?imgurl=http://www.bostonherald.com/blogs/sports/rap_sheet/wp-content/uploads/2009/11/question-marks2.jpg&amp;imgrefurl=http://www.bostonherald.com/blogs/sports/rap_sheet/index.php/2009/11/&amp;usg=__geK63YD8y6fALjyjniX5ybJNCvQ=&amp;h=644&amp;w=795&amp;sz=71&amp;hl=en&amp;start=5&amp;zoom=1&amp;itbs=1&amp;tbnid=0YX9gzZRFAgPXM:&amp;tbnh=116&amp;tbnw=143&amp;prev=/images%3Fq%3Dquestion%2Bmarks%26hl%3Den%26safe%3Dactive%26gbv%3D2%26tbs%3Disch:1" TargetMode="External"/><Relationship Id="rId2" Type="http://schemas.openxmlformats.org/officeDocument/2006/relationships/image" Target="../media/image22.jpeg"/><Relationship Id="rId3" Type="http://schemas.openxmlformats.org/officeDocument/2006/relationships/hyperlink" Target="http://www.google.com/imgres?imgurl=http://www.bostonherald.com/blogs/sports/rap_sheet/wp-content/uploads/2009/11/question-marks2.jpg&amp;imgrefurl=http://www.bostonherald.com/blogs/sports/rap_sheet/index.php/2009/11/&amp;usg=__geK63YD8y6fALjyjniX5ybJNCvQ=&amp;h=644&amp;w=795&amp;sz=71&amp;hl=en&amp;start=5&amp;zoom=1&amp;itbs=1&amp;tbnid=0YX9gzZRFAgPXM:&amp;tbnh=116&amp;tbnw=143&amp;prev=/images%3Fq%3Dquestion%2Bmarks%26hl%3Den%26safe%3Dactive%26gbv%3D2%26tbs%3Disch:1" TargetMode="External"/><Relationship Id="rId4" Type="http://schemas.openxmlformats.org/officeDocument/2006/relationships/image" Target="../media/image22.jpeg"/><Relationship Id="rId5" Type="http://schemas.openxmlformats.org/officeDocument/2006/relationships/hyperlink" Target="http://www.google.com/imgres?imgurl=http://www.exo-terra.com/en/images/products/ground_desert_plants.jpg&amp;imgrefurl=http://www.exo-terra.com/en/products/ground_desert_plants.php&amp;usg=__oykHPXDiBusBAP-_D53SqdF6wXU=&amp;h=582&amp;w=590&amp;sz=109&amp;hl=en&amp;start=3&amp;zoom=1&amp;itbs=1&amp;tbnid=crpxWLgsh-k9JM:&amp;tbnh=133&amp;tbnw=135&amp;prev=/images%3Fq%3Ddesert%2Bplants%26hl%3Den%26safe%3Dactive%26gbv%3D2%26tbs%3Disch:1" TargetMode="External"/><Relationship Id="rId6" Type="http://schemas.openxmlformats.org/officeDocument/2006/relationships/image" Target="../media/image23.jpeg"/><Relationship Id="rId7" Type="http://schemas.openxmlformats.org/officeDocument/2006/relationships/hyperlink" Target="http://www.google.com/imgres?imgurl=http://www.evworld.com/images/saudiaramco_oilrig.jpg&amp;imgrefurl=http://www.evworld.com/article.cfm%3Fstoryid%3D659&amp;usg=__72ZY7W7RxBFF3g9LfKdsjyaN2YM=&amp;h=350&amp;w=280&amp;sz=24&amp;hl=en&amp;start=19&amp;zoom=1&amp;itbs=1&amp;tbnid=ZdI5-k787QD-1M:&amp;tbnh=120&amp;tbnw=96&amp;prev=/images%3Fq%3Ddesert%2Boil%26hl%3Den%26safe%3Dactive%26gbv%3D2%26tbs%3Disch:1" TargetMode="External"/><Relationship Id="rId8" Type="http://schemas.openxmlformats.org/officeDocument/2006/relationships/image" Target="../media/image24.jpeg"/><Relationship Id="rId9" Type="http://schemas.openxmlformats.org/officeDocument/2006/relationships/hyperlink" Target="http://www.google.com/imgres?imgurl=http://www.wallpaperbase.com/wallpapers/landscape/deserts/desert_9.jpg&amp;imgrefurl=http://www.wallpaperbase.com/landscape-deserts.shtml&amp;usg=__im5hjgd0-IYuYFhLoWpy9HozuFs=&amp;h=800&amp;w=1280&amp;sz=301&amp;hl=en&amp;start=10&amp;zoom=1&amp;itbs=1&amp;tbnid=B9ztITu09zYnfM:&amp;tbnh=94&amp;tbnw=150&amp;prev=/images%3Fq%3Ddesert%26hl%3Den%26safe%3Dactive%26gbv%3D2%26tbs%3Disch:1" TargetMode="External"/><Relationship Id="rId10" Type="http://schemas.openxmlformats.org/officeDocument/2006/relationships/image" Target="../media/image25.jpe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oogle.com/imgres?imgurl=http://vulcan.wr.usgs.gov/Imgs/Gif/PlateTectonics/Maps/map_plate_tectonics_world.gif&amp;imgrefurl=http://vulcan.wr.usgs.gov/Glossary/PlateTectonics/Maps/map_plate_tectonics_world.html&amp;usg=__fTprE87sW3ewGkyyqGcgMkq5C6c=&amp;h=540&amp;w=859&amp;sz=26&amp;hl=en&amp;start=3&amp;zoom=1&amp;itbs=1&amp;tbnid=7qd41z3eOeeTSM:&amp;tbnh=91&amp;tbnw=145&amp;prev=/images%3Fq%3Dplate%2Btectonics%26hl%3Den%26safe%3Dactive%26gbv%3D2%26tbs%3Disch:1" TargetMode="External"/><Relationship Id="rId2" Type="http://schemas.openxmlformats.org/officeDocument/2006/relationships/image" Target="../media/image26.jpeg"/><Relationship Id="rId3" Type="http://schemas.openxmlformats.org/officeDocument/2006/relationships/hyperlink" Target="http://www.google.com/imgres?imgurl=http://www.tzipiyah.com/wp-content/uploads/2009/05/desert.jpg&amp;imgrefurl=http://www.tzipiyah.com/2009/05/parshat-bemidbar-numbers-in-the-desert.html&amp;usg=__4zGteQrXVkhGnTnL8VOcpjURG_c=&amp;h=1024&amp;w=1280&amp;sz=391&amp;hl=en&amp;start=16&amp;zoom=1&amp;itbs=1&amp;tbnid=Ixkf1fhXNQ3wlM:&amp;tbnh=120&amp;tbnw=150&amp;prev=/images%3Fq%3Ddesert%26hl%3Den%26safe%3Dactive%26gbv%3D2%26tbs%3Disch:1" TargetMode="External"/><Relationship Id="rId4" Type="http://schemas.openxmlformats.org/officeDocument/2006/relationships/image" Target="../media/image27.jpeg"/><Relationship Id="rId5" Type="http://schemas.openxmlformats.org/officeDocument/2006/relationships/hyperlink" Target="http://www.google.com/imgres?imgurl=http://www.istockphoto.com/file_thumbview_approve/4670064/2/istockphoto_4670064-hot-vs-cold.jpg&amp;imgrefurl=http://www.bestandworst.com/v/136629.htm&amp;usg=__VU4xsM7P2UlNOKDCxvWaDtnFxlI=&amp;h=380&amp;w=271&amp;sz=21&amp;hl=en&amp;start=9&amp;zoom=1&amp;itbs=1&amp;tbnid=IPo6Cjwj1l7xjM:&amp;tbnh=123&amp;tbnw=88&amp;prev=/images%3Fq%3Dhot%2Bvs.%2Bcold%26hl%3Den%26safe%3Dactive%26sa%3DG%26gbv%3D2%26tbs%3Disch:1" TargetMode="External"/><Relationship Id="rId6" Type="http://schemas.openxmlformats.org/officeDocument/2006/relationships/image" Target="../media/image28.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google.com/imgres?imgurl=http://www.istockphoto.com/file_thumbview_approve/4670064/2/istockphoto_4670064-hot-vs-cold.jpg&amp;imgrefurl=http://www.bestandworst.com/v/136629.htm&amp;usg=__VU4xsM7P2UlNOKDCxvWaDtnFxlI=&amp;h=380&amp;w=271&amp;sz=21&amp;hl=en&amp;start=9&amp;zoom=1&amp;itbs=1&amp;tbnid=IPo6Cjwj1l7xjM:&amp;tbnh=123&amp;tbnw=88&amp;prev=/images%3Fq%3Dhot%2Bvs.%2Bcold%26hl%3Den%26safe%3Dactive%26sa%3DG%26gbv%3D2%26tbs%3Disch:1" TargetMode="External"/><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mbgnet.mobot.org/" TargetMode="External"/><Relationship Id="rId2" Type="http://schemas.openxmlformats.org/officeDocument/2006/relationships/hyperlink" Target="http://mbgnet.mobot.org/" TargetMode="External"/><Relationship Id="rId3" Type="http://schemas.openxmlformats.org/officeDocument/2006/relationships/hyperlink" Target="http://mbgnet.mobot.org/" TargetMode="External"/><Relationship Id="rId4" Type="http://schemas.openxmlformats.org/officeDocument/2006/relationships/hyperlink" Target="http://www.blueplanetbiomes.org/worldbiomes.htm" TargetMode="External"/><Relationship Id="rId5" Type="http://schemas.openxmlformats.org/officeDocument/2006/relationships/hyperlink" Target="http://www.blueplanetbiomes.org/worldbiomes.htm" TargetMode="External"/><Relationship Id="rId6" Type="http://schemas.openxmlformats.org/officeDocument/2006/relationships/hyperlink" Target="http://ucmp.berkeley.edu/exhibits/biomes/index.php" TargetMode="External"/><Relationship Id="rId7" Type="http://schemas.openxmlformats.org/officeDocument/2006/relationships/hyperlink" Target="http://ucmp.berkeley.edu/exhibits/biomes/index.php" TargetMode="External"/><Relationship Id="rId8" Type="http://schemas.openxmlformats.org/officeDocument/2006/relationships/hyperlink" Target="http://desertusa.com/mag99/sep/papr/desfeatures.html" TargetMode="External"/><Relationship Id="rId9" Type="http://schemas.openxmlformats.org/officeDocument/2006/relationships/hyperlink" Target="http://en.wikipedia.org/wiki/Thar_Desert#people" TargetMode="External"/><Relationship Id="rId10" Type="http://schemas.openxmlformats.org/officeDocument/2006/relationships/hyperlink" Target="http://en.wikipedia.org/wiki/Thar_Desert#people" TargetMode="External"/><Relationship Id="rId11" Type="http://schemas.openxmlformats.org/officeDocument/2006/relationships/hyperlink" Target="http://en.wikipedia.org/wiki/Arabian_Desert#ecology_and_natural_resources" TargetMode="External"/><Relationship Id="rId12" Type="http://schemas.openxmlformats.org/officeDocument/2006/relationships/hyperlink" Target="http://www.books.google.com/" TargetMode="External"/><Relationship Id="rId13" Type="http://schemas.openxmlformats.org/officeDocument/2006/relationships/hyperlink" Target="http://www.books.google.com/" TargetMode="External"/><Relationship Id="rId14" Type="http://schemas.openxmlformats.org/officeDocument/2006/relationships/hyperlink" Target="http://scientificamerica.com/articlam.cfm" TargetMode="External"/><Relationship Id="rId15" Type="http://schemas.openxmlformats.org/officeDocument/2006/relationships/hyperlink" Target="http://scientificamerica.com/articlam.cfm" TargetMode="External"/><Relationship Id="rId16" Type="http://schemas.openxmlformats.org/officeDocument/2006/relationships/slideLayout" Target="../slideLayouts/slideLayout1.xml"/><Relationship Id="rId17"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blogs.foxtoledo.com/files/2009/03/raindrop.jpg&amp;imgrefurl=http://blogs.foxtoledo.com/2009/03/&amp;usg=__zRzEVWH1dX3OjM2xeD5VJNvuYrM=&amp;h=579&amp;w=525&amp;sz=18&amp;hl=en&amp;start=7&amp;zoom=1&amp;itbs=1&amp;tbnid=XI8JKUMVDD4bjM:&amp;tbnh=134&amp;tbnw=122&amp;prev=/images%3Fq%3Draindrop%26hl%3Den%26safe%3Dactive%26sa%3DX%26gbv%3D2%26tbs%3Disch:1" TargetMode="External"/><Relationship Id="rId2" Type="http://schemas.openxmlformats.org/officeDocument/2006/relationships/image" Target="../media/image3.jpeg"/><Relationship Id="rId3" Type="http://schemas.openxmlformats.org/officeDocument/2006/relationships/hyperlink" Target="http://www.google.com/imgres?imgurl=http://ncelementaryscience.files.wordpress.com/2010/07/thermometer.gif&amp;imgrefurl=http://ncelementaryscience.wordpress.com/2010/07/27/thermometer-quiz/&amp;usg=__jiQCUM4Kdk6yr60gi0U1zOpR120=&amp;h=588&amp;w=339&amp;sz=9&amp;hl=en&amp;start=1&amp;zoom=1&amp;itbs=1&amp;tbnid=iR2345KkDBWhTM:&amp;tbnh=135&amp;tbnw=78&amp;prev=/images%3Fq%3Dthermometer%26hl%3Den%26safe%3Dactive%26gbv%3D2%26tbs%3Disch:1"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oogle.com/imgres?imgurl=http://www.kbears.com/climates/desert.jpg&amp;imgrefurl=http://www.kbears.com/climates/printdesert.html&amp;usg=__iHxYhE0mm2BudseGCtwvnE-ee9I=&amp;h=362&amp;w=509&amp;sz=27&amp;hl=en&amp;start=1&amp;zoom=1&amp;itbs=1&amp;tbnid=MEHHkvSiuCi6WM:&amp;tbnh=93&amp;tbnw=131&amp;prev=/images%3Fq%3Ddeserts%26hl%3Den%26safe%3Dactive%26gbv%3D2%26tbs%3Disch: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google.com/imgres?imgurl=http://sidewinder78.tripod.com/sitebuildercontent/sitebuilderpictures/sidewinder.jpg&amp;imgrefurl=http://sidewinder78.tripod.com/thesidewinderranchenglish/id8.html&amp;usg=__xOIGoQa78k6ktERJ0oOzq50YX10=&amp;h=386&amp;w=428&amp;sz=57&amp;hl=en&amp;start=4&amp;zoom=1&amp;itbs=1&amp;tbnid=SBZuvt6KC_7y3M:&amp;tbnh=114&amp;tbnw=126&amp;prev=/images%3Fq%3DSidewinder%26hl%3Den%26safe%3Dactive%26gbv%3D2%26tbs%3Disch:1"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google.com/imgres?imgurl=http://www.optcorp.com/images2/articles/full-cartoon_man_in_the_moon.28.jpg&amp;imgrefurl=http://www.optcorp.com/edu/articleDetailEDU.aspx%3Faid%3D2139&amp;usg=__eZ8fuSje_eKNGHGYL2MZ-g9_CyA=&amp;h=192&amp;w=192&amp;sz=6&amp;hl=en&amp;start=3&amp;zoom=1&amp;itbs=1&amp;tbnid=YfaJZURIcRXczM:&amp;tbnh=103&amp;tbnw=103&amp;prev=/images%3Fq%3Dthe%2Bmoon%2Bcartoon%26hl%3Den%26safe%3Dactive%26gbv%3D2%26tbs%3Disch:1" TargetMode="External"/><Relationship Id="rId2" Type="http://schemas.openxmlformats.org/officeDocument/2006/relationships/image" Target="../media/image13.jpeg"/><Relationship Id="rId3" Type="http://schemas.openxmlformats.org/officeDocument/2006/relationships/hyperlink" Target="http://www.google.com/imgres?imgurl=http://www.murexfilms.com/murexartwork/documentaries/seeds-of-the-desert.jpg&amp;imgrefurl=http://www.murexfilms.com/tv-documentary.php&amp;usg=__PAjK0OkmSOpAFUxxR6OX0GsOLu8=&amp;h=240&amp;w=320&amp;sz=15&amp;hl=en&amp;start=9&amp;zoom=1&amp;itbs=1&amp;tbnid=vxHDL9sbbIDKpM:&amp;tbnh=89&amp;tbnw=118&amp;prev=/images%3Fq%3Ddesert%2Bseeds%26hl%3Den%26safe%3Dactive%26gbv%3D2%26tbs%3Disch:1" TargetMode="External"/><Relationship Id="rId4" Type="http://schemas.openxmlformats.org/officeDocument/2006/relationships/image" Target="../media/image14.jpeg"/><Relationship Id="rId5" Type="http://schemas.openxmlformats.org/officeDocument/2006/relationships/hyperlink" Target="http://www.google.com/imgres?imgurl=http://1.bp.blogspot.com/_css3FHZ8Pzo/S8XtkyAWp_I/AAAAAAAABdE/MFADniUDabU/s1600/water%2Bin%2Bthe%2Bdesert.jpg&amp;imgrefurl=http://reflectivedust.blogspot.com/2009_03_01_archive.html&amp;usg=__I1-v4GJgPA7QIe6D7OrrBUhOL_A=&amp;h=500&amp;w=379&amp;sz=29&amp;hl=en&amp;start=3&amp;zoom=1&amp;itbs=1&amp;tbnid=aghvuH2gqWLQcM:&amp;tbnh=130&amp;tbnw=99&amp;prev=/images%3Fq%3Ddesert%2Bwater%26hl%3Den%26safe%3Dactive%26gbv%3D2%26tbs%3Disch:1" TargetMode="External"/><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ogle.com/imgres?imgurl=http://www.martysphototours.com/Index%2520Files/DESERT-HUTS_7625-web.jpg&amp;imgrefurl=http://www.martysphototours.com/Index%2520Files/Photo%2520Gallery%2520-%2520India.html&amp;usg=__Bz6Yp9pnKXeNfj-UGMKvsaZ3y4c=&amp;h=229&amp;w=300&amp;sz=11&amp;hl=en&amp;start=5&amp;zoom=1&amp;itbs=1&amp;tbnid=YbwokVnqQPJRNM:&amp;tbnh=89&amp;tbnw=116&amp;prev=/images%3Fq%3Ddesert%2Bhuts%26hl%3Den%26safe%3Dactive%26gbv%3D2%26tbs%3Disch:1" TargetMode="External"/><Relationship Id="rId2" Type="http://schemas.openxmlformats.org/officeDocument/2006/relationships/image" Target="../media/image16.jpeg"/><Relationship Id="rId3" Type="http://schemas.openxmlformats.org/officeDocument/2006/relationships/hyperlink" Target="http://www.google.com/imgres?imgurl=http://www.hickerphoto.com/data/media/65/monument_valley.jpg&amp;imgrefurl=http://www.hickerphoto.com/desert-road-pictures-4080-pictures.htm&amp;usg=__ZWA5RcDPNY_OzYrfd4peZojddDE=&amp;h=370&amp;w=468&amp;sz=45&amp;hl=en&amp;start=1&amp;zoom=1&amp;itbs=1&amp;tbnid=c6xrzgUslQGJTM:&amp;tbnh=101&amp;tbnw=128&amp;prev=/images%3Fq%3Ddesert%2Broads%26hl%3Den%26safe%3Dactive%26gbv%3D2%26tbs%3Disch:1"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www.map-of-usa.co.uk/images/utah.gif&amp;imgrefurl=http://www.map-of-usa.co.uk/map-of-utah.htm&amp;usg=__pjXB72NtUsD-7X0Ou1N0Dgn_b5Q=&amp;h=566&amp;w=602&amp;sz=26&amp;hl=en&amp;start=13&amp;zoom=1&amp;itbs=1&amp;tbnid=ekX1dCk6OQqeAM:&amp;tbnh=127&amp;tbnw=135&amp;prev=/images%3Fq%3DMap%2Bof%2BUtah%26hl%3Den%26safe%3Dactive%26gbv%3D2%26tbs%3Disch:1" TargetMode="External"/><Relationship Id="rId2" Type="http://schemas.openxmlformats.org/officeDocument/2006/relationships/image" Target="../media/image18.jpeg"/><Relationship Id="rId3" Type="http://schemas.openxmlformats.org/officeDocument/2006/relationships/hyperlink" Target="http://www.google.com/imgres?imgurl=http://www.itulip.com/images/oil_barrel.jpg&amp;imgrefurl=http://www.itulip.com/energyandmoney.htm&amp;usg=__OYrHQJiHvZ8nWqiLqyLk483VjB0=&amp;h=411&amp;w=311&amp;sz=17&amp;hl=en&amp;start=9&amp;zoom=1&amp;itbs=1&amp;tbnid=hfG9MgdbUexvdM:&amp;tbnh=125&amp;tbnw=95&amp;prev=/images%3Fq%3Doil%26hl%3Den%26safe%3Dactive%26gbv%3D2%26tbs%3Disch:1" TargetMode="External"/><Relationship Id="rId4" Type="http://schemas.openxmlformats.org/officeDocument/2006/relationships/image" Target="../media/image19.jpeg"/><Relationship Id="rId5" Type="http://schemas.openxmlformats.org/officeDocument/2006/relationships/hyperlink" Target="http://www.google.com/imgres?imgurl=http://4.bp.blogspot.com/_VfdGlmUwjFQ/S-FfYtA2eeI/AAAAAAAAGFM/B9USJ9vDlY4/s1600/Arabic_Gum.png&amp;imgrefurl=http://timbuktuchronicles.blogspot.com/2010/05/on-gum-arabic.html&amp;usg=__6ohXaSEMr1XXjlwbZoHw5VEfXoQ=&amp;h=318&amp;w=400&amp;sz=28&amp;hl=en&amp;start=2&amp;zoom=1&amp;itbs=1&amp;tbnid=m9mzTkI-X0Y07M:&amp;tbnh=99&amp;tbnw=124&amp;prev=/images%3Fq%3Dgum%2Barabic%26hl%3Den%26safe%3Dactive%26gbv%3D2%26tbs%3Disch:1" TargetMode="External"/><Relationship Id="rId6" Type="http://schemas.openxmlformats.org/officeDocument/2006/relationships/image" Target="../media/image20.jpeg"/><Relationship Id="rId7" Type="http://schemas.openxmlformats.org/officeDocument/2006/relationships/hyperlink" Target="http://www.google.com/imgres?imgurl=http://sacredorigin.com/images/jojoba_Simmondsia_chinensis.jpg&amp;imgrefurl=http://www.sacredorigin.com/&amp;usg=__QBD6I4AOXoc76aCUMWjJFfWHJcY=&amp;h=400&amp;w=400&amp;sz=43&amp;hl=en&amp;start=5&amp;zoom=1&amp;itbs=1&amp;tbnid=L6bIGr4TBiReiM:&amp;tbnh=124&amp;tbnw=124&amp;prev=/images%3Fq%3DSimmondsia%2Bchinensis%26hl%3Den%26safe%3Dactive%26sa%3DG%26gbv%3D2%26tbs%3Disch:1" TargetMode="External"/><Relationship Id="rId8" Type="http://schemas.openxmlformats.org/officeDocument/2006/relationships/image" Target="../media/image21.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129" name="PlaceHolder 2"/>
          <p:cNvSpPr>
            <a:spLocks noGrp="1"/>
          </p:cNvSpPr>
          <p:nvPr>
            <p:ph type="subTitle"/>
          </p:nvPr>
        </p:nvSpPr>
        <p:spPr>
          <a:xfrm>
            <a:off x="1371600" y="3870000"/>
            <a:ext cx="6400800" cy="1741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Picture 2" descr="http://t0.gstatic.com/images?q=tbn:ANd9GcTTke19TJVscKQhOGxFT6ktqKC150E6wZq1cD6H9BQ-NQxFVNY&amp;t=1&amp;usg=__rPT8vzCVsuKPOQLTntSqcJDuQf0="/>
          <p:cNvPicPr/>
          <p:nvPr/>
        </p:nvPicPr>
        <p:blipFill>
          <a:blip r:embed="rId1"/>
          <a:stretch/>
        </p:blipFill>
        <p:spPr>
          <a:xfrm>
            <a:off x="0" y="0"/>
            <a:ext cx="9193320" cy="6858000"/>
          </a:xfrm>
          <a:prstGeom prst="rect">
            <a:avLst/>
          </a:prstGeom>
          <a:ln w="0">
            <a:noFill/>
          </a:ln>
        </p:spPr>
      </p:pic>
      <p:sp>
        <p:nvSpPr>
          <p:cNvPr id="131" name="TextBox 5"/>
          <p:cNvSpPr/>
          <p:nvPr/>
        </p:nvSpPr>
        <p:spPr>
          <a:xfrm>
            <a:off x="2895480" y="1219320"/>
            <a:ext cx="7040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bri"/>
              </a:rPr>
              <a:t>Desert</a:t>
            </a:r>
            <a:endParaRPr b="0" lang="en-US" sz="5200" spc="-1" strike="noStrike">
              <a:solidFill>
                <a:srgbClr val="ffffff"/>
              </a:solidFill>
              <a:latin typeface="Arial"/>
            </a:endParaRPr>
          </a:p>
        </p:txBody>
      </p:sp>
      <p:sp>
        <p:nvSpPr>
          <p:cNvPr id="132" name="TextBox 6"/>
          <p:cNvSpPr/>
          <p:nvPr/>
        </p:nvSpPr>
        <p:spPr>
          <a:xfrm>
            <a:off x="1676520" y="472428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ph Nolan &amp; Brynn Peak</a:t>
            </a:r>
            <a:endParaRPr b="0" lang="en-US" sz="3200" spc="-1" strike="noStrike">
              <a:solidFill>
                <a:srgbClr val="ffffff"/>
              </a:solidFill>
              <a:latin typeface="Arial"/>
            </a:endParaRPr>
          </a:p>
        </p:txBody>
      </p:sp>
    </p:spTree>
  </p:cSld>
  <p:transition spd="slow" advTm="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Questions</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can deserts be found?</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people live in deserts?</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oil found in deserts?</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kinds of deserts are there?</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deserts like?</a:t>
            </a:r>
            <a:endParaRPr b="0" lang="en-US" sz="3200" spc="-1" strike="noStrike">
              <a:solidFill>
                <a:srgbClr val="ffffff"/>
              </a:solidFill>
              <a:latin typeface="Arial"/>
            </a:endParaRPr>
          </a:p>
          <a:p>
            <a:pPr marL="514440" indent="-514440">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plants survive?</a:t>
            </a:r>
            <a:endParaRPr b="0" lang="en-US" sz="32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 descr="">
            <a:hlinkClick r:id="rId1"/>
          </p:cNvPr>
          <p:cNvPicPr/>
          <p:nvPr/>
        </p:nvPicPr>
        <p:blipFill>
          <a:blip r:embed="rId2"/>
          <a:stretch/>
        </p:blipFill>
        <p:spPr>
          <a:xfrm>
            <a:off x="304920" y="152280"/>
            <a:ext cx="1361880" cy="1105200"/>
          </a:xfrm>
          <a:prstGeom prst="rect">
            <a:avLst/>
          </a:prstGeom>
          <a:ln w="0">
            <a:noFill/>
          </a:ln>
        </p:spPr>
      </p:pic>
      <p:pic>
        <p:nvPicPr>
          <p:cNvPr id="179" name="" descr="">
            <a:hlinkClick r:id="rId3"/>
          </p:cNvPr>
          <p:cNvPicPr/>
          <p:nvPr/>
        </p:nvPicPr>
        <p:blipFill>
          <a:blip r:embed="rId4"/>
          <a:stretch/>
        </p:blipFill>
        <p:spPr>
          <a:xfrm>
            <a:off x="7315200" y="152280"/>
            <a:ext cx="1362240" cy="1105200"/>
          </a:xfrm>
          <a:prstGeom prst="rect">
            <a:avLst/>
          </a:prstGeom>
          <a:ln w="0">
            <a:noFill/>
          </a:ln>
        </p:spPr>
      </p:pic>
      <p:pic>
        <p:nvPicPr>
          <p:cNvPr id="180" name="" descr="">
            <a:hlinkClick r:id="rId5"/>
          </p:cNvPr>
          <p:cNvPicPr/>
          <p:nvPr/>
        </p:nvPicPr>
        <p:blipFill>
          <a:blip r:embed="rId6"/>
          <a:stretch/>
        </p:blipFill>
        <p:spPr>
          <a:xfrm>
            <a:off x="6324480" y="4572000"/>
            <a:ext cx="1895760" cy="1866960"/>
          </a:xfrm>
          <a:prstGeom prst="rect">
            <a:avLst/>
          </a:prstGeom>
          <a:ln w="0">
            <a:noFill/>
          </a:ln>
        </p:spPr>
      </p:pic>
      <p:pic>
        <p:nvPicPr>
          <p:cNvPr id="181" name="" descr="">
            <a:hlinkClick r:id="rId7"/>
          </p:cNvPr>
          <p:cNvPicPr/>
          <p:nvPr/>
        </p:nvPicPr>
        <p:blipFill>
          <a:blip r:embed="rId8"/>
          <a:stretch/>
        </p:blipFill>
        <p:spPr>
          <a:xfrm>
            <a:off x="7162920" y="1752480"/>
            <a:ext cx="1463400" cy="1828800"/>
          </a:xfrm>
          <a:prstGeom prst="rect">
            <a:avLst/>
          </a:prstGeom>
          <a:ln w="0">
            <a:noFill/>
          </a:ln>
        </p:spPr>
      </p:pic>
      <p:pic>
        <p:nvPicPr>
          <p:cNvPr id="182" name="" descr="">
            <a:hlinkClick r:id="rId9"/>
          </p:cNvPr>
          <p:cNvPicPr/>
          <p:nvPr/>
        </p:nvPicPr>
        <p:blipFill>
          <a:blip r:embed="rId10"/>
          <a:stretch/>
        </p:blipFill>
        <p:spPr>
          <a:xfrm>
            <a:off x="1676520" y="5181480"/>
            <a:ext cx="2419200" cy="1516320"/>
          </a:xfrm>
          <a:prstGeom prst="rect">
            <a:avLst/>
          </a:prstGeom>
          <a:ln w="0">
            <a:noFill/>
          </a:ln>
        </p:spPr>
      </p:pic>
    </p:spTree>
  </p:cSld>
  <p:transition spd="slow" advTm="5000">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84" name=""/>
          <p:cNvSpPr txBox="1"/>
          <p:nvPr/>
        </p:nvSpPr>
        <p:spPr>
          <a:xfrm>
            <a:off x="457200" y="1294920"/>
            <a:ext cx="8229600" cy="4876920"/>
          </a:xfrm>
          <a:prstGeom prst="rect">
            <a:avLst/>
          </a:prstGeom>
          <a:noFill/>
          <a:ln w="0">
            <a:noFill/>
          </a:ln>
        </p:spPr>
        <p:txBody>
          <a:bodyPr anchor="t">
            <a:normAutofit fontScale="98000"/>
          </a:bodyPr>
          <a:p>
            <a:pPr marL="504000" indent="-50400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between 30 degrees latitude N, and 30 degrees lat. S.</a:t>
            </a:r>
            <a:endParaRPr b="0" lang="en-US" sz="1800" spc="-1" strike="noStrike">
              <a:solidFill>
                <a:srgbClr val="ffffff"/>
              </a:solidFill>
              <a:latin typeface="Arial"/>
            </a:endParaRPr>
          </a:p>
          <a:p>
            <a:pPr marL="504000" indent="-50400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 people do live in deserts, but many don’t because of harsh conditions.</a:t>
            </a:r>
            <a:endParaRPr b="0" lang="en-US" sz="1800" spc="-1" strike="noStrike">
              <a:solidFill>
                <a:srgbClr val="ffffff"/>
              </a:solidFill>
              <a:latin typeface="Arial"/>
            </a:endParaRPr>
          </a:p>
          <a:p>
            <a:pPr marL="504000" indent="-50400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e tectonics are ser up in a way that oil is mostly in those areas. Also, the air isn't very easy to live in. So a lot of microorganisms don’t decompose and help with producing oil.</a:t>
            </a:r>
            <a:endParaRPr b="0" lang="en-US" sz="1800" spc="-1" strike="noStrike">
              <a:solidFill>
                <a:srgbClr val="ffffff"/>
              </a:solidFill>
              <a:latin typeface="Arial"/>
            </a:endParaRPr>
          </a:p>
          <a:p>
            <a:pPr marL="504000" indent="-50400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H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abian-Arabian Peninsula </a:t>
            </a:r>
            <a:r>
              <a:rPr b="0" lang="en-US" sz="1800" spc="-1" strike="noStrike">
                <a:solidFill>
                  <a:srgbClr val="ffffff"/>
                </a:solidFill>
                <a:latin typeface="Arial"/>
              </a:rPr>
              <a:t>	</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stralian-Australia</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hare-SW United States</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te- Argentina</a:t>
            </a:r>
            <a:r>
              <a:rPr b="0" lang="en-US" sz="1800" spc="-1" strike="noStrike">
                <a:solidFill>
                  <a:srgbClr val="ffffff"/>
                </a:solidFill>
                <a:latin typeface="Arial"/>
              </a:rPr>
              <a:t>	</a:t>
            </a:r>
            <a:endParaRPr b="0" lang="en-US" sz="1800" spc="-1" strike="noStrike">
              <a:solidFill>
                <a:srgbClr val="ffffff"/>
              </a:solidFill>
              <a:latin typeface="Arial"/>
            </a:endParaRPr>
          </a:p>
          <a:p>
            <a:pPr marL="504000" indent="-504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u="sng">
                <a:solidFill>
                  <a:srgbClr val="ffffff"/>
                </a:solidFill>
                <a:uFillTx/>
                <a:latin typeface="Arial"/>
              </a:rPr>
              <a:t>Cold:</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bi-North China</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anian-Iran</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ib-SW Africa</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kestan-SW Russia</a:t>
            </a:r>
            <a:endParaRPr b="0" lang="en-US" sz="1800" spc="-1" strike="noStrike">
              <a:solidFill>
                <a:srgbClr val="ffffff"/>
              </a:solidFill>
              <a:latin typeface="Arial"/>
            </a:endParaRPr>
          </a:p>
          <a:p>
            <a:pPr marL="504000" indent="-50400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5" name="" descr="">
            <a:hlinkClick r:id="rId1"/>
          </p:cNvPr>
          <p:cNvPicPr/>
          <p:nvPr/>
        </p:nvPicPr>
        <p:blipFill>
          <a:blip r:embed="rId2"/>
          <a:stretch/>
        </p:blipFill>
        <p:spPr>
          <a:xfrm>
            <a:off x="6553080" y="5141880"/>
            <a:ext cx="2295720" cy="1440000"/>
          </a:xfrm>
          <a:prstGeom prst="rect">
            <a:avLst/>
          </a:prstGeom>
          <a:ln w="0">
            <a:noFill/>
          </a:ln>
        </p:spPr>
      </p:pic>
      <p:pic>
        <p:nvPicPr>
          <p:cNvPr id="186" name="" descr="">
            <a:hlinkClick r:id="rId3"/>
          </p:cNvPr>
          <p:cNvPicPr/>
          <p:nvPr/>
        </p:nvPicPr>
        <p:blipFill>
          <a:blip r:embed="rId4"/>
          <a:stretch/>
        </p:blipFill>
        <p:spPr>
          <a:xfrm>
            <a:off x="7391520" y="152280"/>
            <a:ext cx="1504800" cy="1204920"/>
          </a:xfrm>
          <a:prstGeom prst="rect">
            <a:avLst/>
          </a:prstGeom>
          <a:ln w="0">
            <a:noFill/>
          </a:ln>
        </p:spPr>
      </p:pic>
      <p:pic>
        <p:nvPicPr>
          <p:cNvPr id="187" name="" descr="">
            <a:hlinkClick r:id="rId5"/>
          </p:cNvPr>
          <p:cNvPicPr/>
          <p:nvPr/>
        </p:nvPicPr>
        <p:blipFill>
          <a:blip r:embed="rId6"/>
          <a:stretch/>
        </p:blipFill>
        <p:spPr>
          <a:xfrm>
            <a:off x="4038480" y="3505320"/>
            <a:ext cx="2036880" cy="2847960"/>
          </a:xfrm>
          <a:prstGeom prst="rect">
            <a:avLst/>
          </a:prstGeom>
          <a:ln w="0">
            <a:noFill/>
          </a:ln>
        </p:spPr>
      </p:pic>
    </p:spTree>
  </p:cSld>
  <p:transition spd="slow" advTm="5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 cont.</a:t>
            </a:r>
            <a:endParaRPr b="0" lang="en-US" sz="4400" spc="-1" strike="noStrike">
              <a:solidFill>
                <a:srgbClr val="e3e3ff"/>
              </a:solidFill>
              <a:latin typeface="Arial"/>
            </a:endParaRPr>
          </a:p>
        </p:txBody>
      </p:sp>
      <p:sp>
        <p:nvSpPr>
          <p:cNvPr id="18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Usually hot during the day, cold at night, very dry, little vegetation, long dry spells, little rain, sudden flash-flood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They have adaptations that let them store water &amp; hold it for long periods of time.</a:t>
            </a:r>
            <a:endParaRPr b="0" lang="en-US" sz="3200" spc="-1" strike="noStrike">
              <a:solidFill>
                <a:srgbClr val="ffffff"/>
              </a:solidFill>
              <a:latin typeface="Arial"/>
            </a:endParaRPr>
          </a:p>
        </p:txBody>
      </p:sp>
      <p:pic>
        <p:nvPicPr>
          <p:cNvPr id="190" name="" descr="">
            <a:hlinkClick r:id="rId1"/>
          </p:cNvPr>
          <p:cNvPicPr/>
          <p:nvPr/>
        </p:nvPicPr>
        <p:blipFill>
          <a:blip r:embed="rId2"/>
          <a:stretch/>
        </p:blipFill>
        <p:spPr>
          <a:xfrm>
            <a:off x="2362320" y="4648320"/>
            <a:ext cx="1164960" cy="1628640"/>
          </a:xfrm>
          <a:prstGeom prst="rect">
            <a:avLst/>
          </a:prstGeom>
          <a:ln w="0">
            <a:noFill/>
          </a:ln>
        </p:spPr>
      </p:pic>
      <p:pic>
        <p:nvPicPr>
          <p:cNvPr id="191" name="" descr=""/>
          <p:cNvPicPr/>
          <p:nvPr/>
        </p:nvPicPr>
        <p:blipFill>
          <a:blip r:embed="rId3"/>
          <a:stretch/>
        </p:blipFill>
        <p:spPr>
          <a:xfrm>
            <a:off x="4191120" y="4648320"/>
            <a:ext cx="2504880" cy="1663560"/>
          </a:xfrm>
          <a:prstGeom prst="rect">
            <a:avLst/>
          </a:prstGeom>
          <a:ln w="0">
            <a:noFill/>
          </a:ln>
        </p:spPr>
      </p:pic>
    </p:spTree>
  </p:cSld>
  <p:transition spd="slow" advTm="5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ooks &amp; websites used</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93" name=""/>
          <p:cNvSpPr txBox="1"/>
          <p:nvPr/>
        </p:nvSpPr>
        <p:spPr>
          <a:xfrm>
            <a:off x="457200" y="1600200"/>
            <a:ext cx="8229600" cy="449568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
              </a:rPr>
              <a:t>http://</a:t>
            </a:r>
            <a:r>
              <a:rPr b="0" lang="en-US" sz="1800" spc="-1" strike="noStrike" u="sng">
                <a:solidFill>
                  <a:srgbClr val="00ffcc"/>
                </a:solidFill>
                <a:uFillTx/>
                <a:latin typeface="Arial"/>
                <a:hlinkClick r:id="rId2"/>
              </a:rPr>
              <a:t>mbgnet.mobot.org</a:t>
            </a:r>
            <a:r>
              <a:rPr b="0" lang="en-US" sz="1800" spc="-1" strike="noStrike" u="sng">
                <a:solidFill>
                  <a:srgbClr val="00ffcc"/>
                </a:solidFill>
                <a:uFillTx/>
                <a:latin typeface="Arial"/>
                <a:hlinkClick r:id="rId3"/>
              </a:rPr>
              <a:t>/</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4"/>
              </a:rPr>
              <a:t>http://</a:t>
            </a:r>
            <a:r>
              <a:rPr b="0" lang="en-US" sz="1800" spc="-1" strike="noStrike" u="sng">
                <a:solidFill>
                  <a:srgbClr val="00ffcc"/>
                </a:solidFill>
                <a:uFillTx/>
                <a:latin typeface="Arial"/>
                <a:hlinkClick r:id="rId5"/>
              </a:rPr>
              <a:t>www.blueplanetbiomes.org/worldbiomes.htm</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6"/>
              </a:rPr>
              <a:t>http://</a:t>
            </a:r>
            <a:r>
              <a:rPr b="0" lang="en-US" sz="1800" spc="-1" strike="noStrike" u="sng">
                <a:solidFill>
                  <a:srgbClr val="00ffcc"/>
                </a:solidFill>
                <a:uFillTx/>
                <a:latin typeface="Arial"/>
                <a:hlinkClick r:id="rId7"/>
              </a:rPr>
              <a:t>ucmp.berkeley.edu/exhibits/biomes/index.php</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8"/>
              </a:rPr>
              <a:t>http://desertusa.com/mag99/sep/papr/desfeatures.html</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9"/>
              </a:rPr>
              <a:t>http://</a:t>
            </a:r>
            <a:r>
              <a:rPr b="0" lang="en-US" sz="1800" spc="-1" strike="noStrike" u="sng">
                <a:solidFill>
                  <a:srgbClr val="00ffcc"/>
                </a:solidFill>
                <a:uFillTx/>
                <a:latin typeface="Arial"/>
                <a:hlinkClick r:id="rId10"/>
              </a:rPr>
              <a:t>en.wikipedia.org/wiki/Thar_Desert#peopl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1"/>
              </a:rPr>
              <a:t>http://en.wikipedia.org/wiki/Arabian_Desert#ecology_and_natural_resources</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2"/>
              </a:rPr>
              <a:t>http://</a:t>
            </a:r>
            <a:r>
              <a:rPr b="0" lang="en-US" sz="1800" spc="-1" strike="noStrike" u="sng">
                <a:solidFill>
                  <a:srgbClr val="00ffcc"/>
                </a:solidFill>
                <a:uFillTx/>
                <a:latin typeface="Arial"/>
                <a:hlinkClick r:id="rId13"/>
              </a:rPr>
              <a:t>www.books.google.com</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ffcc"/>
                </a:solidFill>
                <a:uFillTx/>
                <a:latin typeface="Arial"/>
                <a:hlinkClick r:id="rId14"/>
              </a:rPr>
              <a:t>http://</a:t>
            </a:r>
            <a:r>
              <a:rPr b="0" lang="en-US" sz="1800" spc="-1" strike="noStrike" u="sng">
                <a:solidFill>
                  <a:srgbClr val="00ffcc"/>
                </a:solidFill>
                <a:uFillTx/>
                <a:latin typeface="Arial"/>
                <a:hlinkClick r:id="rId15"/>
              </a:rPr>
              <a:t>scientificamerica.com/articlam.cfm</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ue Biology book</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 Biology book</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iki.answers.com/Q/How_do_people_affect_the_desert</a:t>
            </a:r>
            <a:endParaRPr b="0" lang="en-US" sz="1800" spc="-1" strike="noStrike">
              <a:solidFill>
                <a:srgbClr val="ffffff"/>
              </a:solidFill>
              <a:latin typeface="Arial"/>
            </a:endParaRPr>
          </a:p>
          <a:p>
            <a:pPr marL="343080" indent="-343080">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5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ert Map of the World</a:t>
            </a:r>
            <a:endParaRPr b="0" lang="en-US" sz="4400" spc="-1" strike="noStrike">
              <a:solidFill>
                <a:srgbClr val="e3e3ff"/>
              </a:solidFill>
              <a:latin typeface="Arial"/>
            </a:endParaRPr>
          </a:p>
        </p:txBody>
      </p:sp>
      <p:pic>
        <p:nvPicPr>
          <p:cNvPr id="134" name="Picture 4" descr="World Desert Map"/>
          <p:cNvPicPr/>
          <p:nvPr/>
        </p:nvPicPr>
        <p:blipFill>
          <a:blip r:embed="rId1"/>
          <a:stretch/>
        </p:blipFill>
        <p:spPr>
          <a:xfrm>
            <a:off x="762120" y="1752480"/>
            <a:ext cx="7619760" cy="4419720"/>
          </a:xfrm>
          <a:prstGeom prst="rect">
            <a:avLst/>
          </a:prstGeom>
          <a:ln w="0">
            <a:noFill/>
          </a:ln>
        </p:spPr>
      </p:pic>
    </p:spTree>
  </p:cSld>
  <p:transition spd="slow" advTm="5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emperature&amp; Precipitation</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6" name=""/>
          <p:cNvSpPr txBox="1"/>
          <p:nvPr/>
        </p:nvSpPr>
        <p:spPr>
          <a:xfrm>
            <a:off x="457200" y="1600200"/>
            <a:ext cx="8229600" cy="4495680"/>
          </a:xfrm>
          <a:prstGeom prst="rect">
            <a:avLst/>
          </a:prstGeom>
          <a:noFill/>
          <a:ln w="0">
            <a:noFill/>
          </a:ln>
        </p:spPr>
        <p:txBody>
          <a:bodyPr anchor="t">
            <a:normAutofit/>
          </a:bodyPr>
          <a:p>
            <a:pPr marL="343080" indent="-343080">
              <a:lnSpc>
                <a:spcPct val="2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serts of the world get less than 15-16 cm of rain a year.</a:t>
            </a:r>
            <a:endParaRPr b="0" lang="en-US" sz="3200" spc="-1" strike="noStrike">
              <a:solidFill>
                <a:srgbClr val="ffffff"/>
              </a:solidFill>
              <a:latin typeface="Arial"/>
            </a:endParaRPr>
          </a:p>
          <a:p>
            <a:pPr marL="343080" indent="-343080">
              <a:lnSpc>
                <a:spcPct val="2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e temperatures are from 20-25 degrees Celsius.</a:t>
            </a:r>
            <a:endParaRPr b="0" lang="en-US" sz="3200" spc="-1" strike="noStrike">
              <a:solidFill>
                <a:srgbClr val="ffffff"/>
              </a:solidFill>
              <a:latin typeface="Arial"/>
            </a:endParaRPr>
          </a:p>
          <a:p>
            <a:pPr marL="343080" indent="-343080">
              <a:lnSpc>
                <a:spcPct val="20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7" name="" descr="">
            <a:hlinkClick r:id="rId1"/>
          </p:cNvPr>
          <p:cNvPicPr/>
          <p:nvPr/>
        </p:nvPicPr>
        <p:blipFill>
          <a:blip r:embed="rId2"/>
          <a:stretch/>
        </p:blipFill>
        <p:spPr>
          <a:xfrm>
            <a:off x="7981920" y="0"/>
            <a:ext cx="1162080" cy="1276200"/>
          </a:xfrm>
          <a:prstGeom prst="rect">
            <a:avLst/>
          </a:prstGeom>
          <a:ln w="0">
            <a:noFill/>
          </a:ln>
        </p:spPr>
      </p:pic>
      <p:pic>
        <p:nvPicPr>
          <p:cNvPr id="138" name="" descr="">
            <a:hlinkClick r:id="rId3"/>
          </p:cNvPr>
          <p:cNvPicPr/>
          <p:nvPr/>
        </p:nvPicPr>
        <p:blipFill>
          <a:blip r:embed="rId4"/>
          <a:stretch/>
        </p:blipFill>
        <p:spPr>
          <a:xfrm>
            <a:off x="155520" y="46080"/>
            <a:ext cx="743040" cy="1285920"/>
          </a:xfrm>
          <a:prstGeom prst="rect">
            <a:avLst/>
          </a:prstGeom>
          <a:ln w="0">
            <a:noFill/>
          </a:ln>
        </p:spPr>
      </p:pic>
    </p:spTree>
  </p:cSld>
  <p:transition spd="slow" advTm="5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logic Features of the Desert</a:t>
            </a:r>
            <a:endParaRPr b="0" lang="en-US" sz="4400" spc="-1" strike="noStrike">
              <a:solidFill>
                <a:srgbClr val="e3e3ff"/>
              </a:solidFill>
              <a:latin typeface="Arial"/>
            </a:endParaRPr>
          </a:p>
        </p:txBody>
      </p:sp>
      <p:sp>
        <p:nvSpPr>
          <p:cNvPr id="140" name=""/>
          <p:cNvSpPr txBox="1"/>
          <p:nvPr/>
        </p:nvSpPr>
        <p:spPr>
          <a:xfrm>
            <a:off x="457200" y="1294920"/>
            <a:ext cx="8229600" cy="5257800"/>
          </a:xfrm>
          <a:prstGeom prst="rect">
            <a:avLst/>
          </a:prstGeom>
          <a:noFill/>
          <a:ln w="0">
            <a:noFill/>
          </a:ln>
        </p:spPr>
        <p:txBody>
          <a:bodyPr anchor="t">
            <a:normAutofit/>
          </a:bodyPr>
          <a:p>
            <a:pPr marL="343080" indent="-343080">
              <a:lnSpc>
                <a:spcPct val="1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in Geologic features of the desert is:</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royo-desert gully.</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unes-loose sound grains that are shaped by the wind.</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lash Floods-local flood.</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odoo-bizarre column caused by an erosion.</a:t>
            </a:r>
            <a:endParaRPr b="0" lang="en-US" sz="1600" spc="-1" strike="noStrike">
              <a:solidFill>
                <a:srgbClr val="ffffff"/>
              </a:solidFill>
              <a:latin typeface="Arial"/>
            </a:endParaRPr>
          </a:p>
          <a:p>
            <a:pPr marL="343080" indent="-343080">
              <a:lnSpc>
                <a:spcPct val="16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a-a large cliff that has rock layers.</a:t>
            </a:r>
            <a:endParaRPr b="0" lang="en-US" sz="1600" spc="-1" strike="noStrike">
              <a:solidFill>
                <a:srgbClr val="ffffff"/>
              </a:solidFill>
              <a:latin typeface="Arial"/>
            </a:endParaRPr>
          </a:p>
          <a:p>
            <a:pPr marL="343080" indent="-343080">
              <a:lnSpc>
                <a:spcPct val="1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1" name="" descr="">
            <a:hlinkClick r:id="rId1"/>
          </p:cNvPr>
          <p:cNvPicPr/>
          <p:nvPr/>
        </p:nvPicPr>
        <p:blipFill>
          <a:blip r:embed="rId2"/>
          <a:stretch/>
        </p:blipFill>
        <p:spPr>
          <a:xfrm>
            <a:off x="4724280" y="3809880"/>
            <a:ext cx="3962520" cy="2813040"/>
          </a:xfrm>
          <a:prstGeom prst="rect">
            <a:avLst/>
          </a:prstGeom>
          <a:ln w="0">
            <a:noFill/>
          </a:ln>
        </p:spPr>
      </p:pic>
    </p:spTree>
  </p:cSld>
  <p:transition spd="slow" advTm="5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nts in the desert</a:t>
            </a:r>
            <a:endParaRPr b="0" lang="en-US" sz="4400" spc="-1" strike="noStrike">
              <a:solidFill>
                <a:srgbClr val="e3e3ff"/>
              </a:solidFill>
              <a:latin typeface="Arial"/>
            </a:endParaRPr>
          </a:p>
        </p:txBody>
      </p:sp>
      <p:sp>
        <p:nvSpPr>
          <p:cNvPr id="14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Picture 4" descr="http://www.blueplanetbiomes.org/images/barrelcactus.jpg"/>
          <p:cNvPicPr/>
          <p:nvPr/>
        </p:nvPicPr>
        <p:blipFill>
          <a:blip r:embed="rId1"/>
          <a:stretch/>
        </p:blipFill>
        <p:spPr>
          <a:xfrm>
            <a:off x="6172200" y="1523880"/>
            <a:ext cx="1905120" cy="1886040"/>
          </a:xfrm>
          <a:prstGeom prst="rect">
            <a:avLst/>
          </a:prstGeom>
          <a:ln w="0">
            <a:noFill/>
          </a:ln>
        </p:spPr>
      </p:pic>
      <p:pic>
        <p:nvPicPr>
          <p:cNvPr id="145" name="Picture 6" descr="http://www.blueplanetbiomes.org/images/cholla_sml.jpg"/>
          <p:cNvPicPr/>
          <p:nvPr/>
        </p:nvPicPr>
        <p:blipFill>
          <a:blip r:embed="rId2"/>
          <a:stretch/>
        </p:blipFill>
        <p:spPr>
          <a:xfrm>
            <a:off x="3352680" y="4648320"/>
            <a:ext cx="1828800" cy="1504800"/>
          </a:xfrm>
          <a:prstGeom prst="rect">
            <a:avLst/>
          </a:prstGeom>
          <a:ln w="0">
            <a:noFill/>
          </a:ln>
        </p:spPr>
      </p:pic>
      <p:pic>
        <p:nvPicPr>
          <p:cNvPr id="146" name="Picture 8" descr="http://www.blueplanetbiomes.org/images/ironwoodinbloom.jpg"/>
          <p:cNvPicPr/>
          <p:nvPr/>
        </p:nvPicPr>
        <p:blipFill>
          <a:blip r:embed="rId3"/>
          <a:stretch/>
        </p:blipFill>
        <p:spPr>
          <a:xfrm>
            <a:off x="990720" y="1905120"/>
            <a:ext cx="2057400" cy="1733400"/>
          </a:xfrm>
          <a:prstGeom prst="rect">
            <a:avLst/>
          </a:prstGeom>
          <a:ln w="0">
            <a:noFill/>
          </a:ln>
        </p:spPr>
      </p:pic>
      <p:sp>
        <p:nvSpPr>
          <p:cNvPr id="147" name="TextBox 9"/>
          <p:cNvSpPr/>
          <p:nvPr/>
        </p:nvSpPr>
        <p:spPr>
          <a:xfrm>
            <a:off x="6934320" y="5486400"/>
            <a:ext cx="1752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hainFruit Cholla-usually found in the Arizona Desert.</a:t>
            </a:r>
            <a:endParaRPr b="0" lang="en-US" sz="1400" spc="-1" strike="noStrike">
              <a:solidFill>
                <a:srgbClr val="ffffff"/>
              </a:solidFill>
              <a:latin typeface="Arial"/>
            </a:endParaRPr>
          </a:p>
        </p:txBody>
      </p:sp>
      <p:cxnSp>
        <p:nvCxnSpPr>
          <p:cNvPr id="148" name="Straight Arrow Connector 13"/>
          <p:cNvCxnSpPr>
            <a:stCxn id="147" idx="1"/>
          </p:cNvCxnSpPr>
          <p:nvPr/>
        </p:nvCxnSpPr>
        <p:spPr>
          <a:xfrm flipH="1" flipV="1">
            <a:off x="5180760" y="5284440"/>
            <a:ext cx="1753560" cy="567360"/>
          </a:xfrm>
          <a:prstGeom prst="straightConnector1">
            <a:avLst/>
          </a:prstGeom>
          <a:ln w="38160">
            <a:solidFill>
              <a:srgbClr val="ffffff"/>
            </a:solidFill>
            <a:miter/>
            <a:tailEnd len="med" type="arrow" w="med"/>
          </a:ln>
        </p:spPr>
      </p:cxnSp>
      <p:sp>
        <p:nvSpPr>
          <p:cNvPr id="149" name="TextBox 14"/>
          <p:cNvSpPr/>
          <p:nvPr/>
        </p:nvSpPr>
        <p:spPr>
          <a:xfrm>
            <a:off x="3657600" y="2971800"/>
            <a:ext cx="1371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arrel Cactus</a:t>
            </a:r>
            <a:r>
              <a:rPr b="0" lang="en-US" sz="1800" spc="-1" strike="noStrike">
                <a:solidFill>
                  <a:srgbClr val="ffffff"/>
                </a:solidFill>
                <a:latin typeface="Calibri"/>
              </a:rPr>
              <a:t>-</a:t>
            </a:r>
            <a:r>
              <a:rPr b="0" lang="en-US" sz="1400" spc="-1" strike="noStrike">
                <a:solidFill>
                  <a:srgbClr val="ffffff"/>
                </a:solidFill>
                <a:latin typeface="Calibri"/>
              </a:rPr>
              <a:t>usually found in the American Desert.</a:t>
            </a:r>
            <a:endParaRPr b="0" lang="en-US" sz="1400" spc="-1" strike="noStrike">
              <a:solidFill>
                <a:srgbClr val="ffffff"/>
              </a:solidFill>
              <a:latin typeface="Arial"/>
            </a:endParaRPr>
          </a:p>
        </p:txBody>
      </p:sp>
      <p:cxnSp>
        <p:nvCxnSpPr>
          <p:cNvPr id="150" name="Straight Arrow Connector 19"/>
          <p:cNvCxnSpPr/>
          <p:nvPr/>
        </p:nvCxnSpPr>
        <p:spPr>
          <a:xfrm flipV="1">
            <a:off x="4647960" y="2133360"/>
            <a:ext cx="1448280" cy="838800"/>
          </a:xfrm>
          <a:prstGeom prst="straightConnector1">
            <a:avLst/>
          </a:prstGeom>
          <a:ln w="38160">
            <a:solidFill>
              <a:srgbClr val="ffffff"/>
            </a:solidFill>
            <a:miter/>
            <a:tailEnd len="med" type="arrow" w="med"/>
          </a:ln>
        </p:spPr>
      </p:cxnSp>
      <p:sp>
        <p:nvSpPr>
          <p:cNvPr id="151" name="TextBox 20"/>
          <p:cNvSpPr/>
          <p:nvPr/>
        </p:nvSpPr>
        <p:spPr>
          <a:xfrm>
            <a:off x="533520" y="4648320"/>
            <a:ext cx="1676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esert Ironwood- usually found in Sonoran Desert.</a:t>
            </a:r>
            <a:br>
              <a:rPr sz="1400"/>
            </a:br>
            <a:endParaRPr b="0" lang="en-US" sz="1400" spc="-1" strike="noStrike">
              <a:solidFill>
                <a:srgbClr val="ffffff"/>
              </a:solidFill>
              <a:latin typeface="Arial"/>
            </a:endParaRPr>
          </a:p>
        </p:txBody>
      </p:sp>
      <p:cxnSp>
        <p:nvCxnSpPr>
          <p:cNvPr id="152" name="Straight Arrow Connector 22"/>
          <p:cNvCxnSpPr/>
          <p:nvPr/>
        </p:nvCxnSpPr>
        <p:spPr>
          <a:xfrm flipV="1">
            <a:off x="989640" y="3657240"/>
            <a:ext cx="610200" cy="915120"/>
          </a:xfrm>
          <a:prstGeom prst="straightConnector1">
            <a:avLst/>
          </a:prstGeom>
          <a:ln w="38160">
            <a:solidFill>
              <a:srgbClr val="ffffff"/>
            </a:solidFill>
            <a:miter/>
            <a:tailEnd len="med" type="arrow" w="med"/>
          </a:ln>
        </p:spPr>
      </p:cxnSp>
    </p:spTree>
  </p:cSld>
  <p:transition spd="slow" advTm="5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esert Animals</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ngo- The dingo is a mammal and a carnivore.  Dingo’s belong to the dog and fox family, and is seen most commonly in Australi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rny Devil- This reptile eats ants, and belongs to the lizard/snake family.  Most Thorny Devils are found in Australia.</a:t>
            </a:r>
            <a:endParaRPr b="0" lang="en-US" sz="2000" spc="-1" strike="noStrike">
              <a:solidFill>
                <a:srgbClr val="ffffff"/>
              </a:solidFill>
              <a:latin typeface="Arial"/>
            </a:endParaRPr>
          </a:p>
        </p:txBody>
      </p:sp>
      <p:sp>
        <p:nvSpPr>
          <p:cNvPr id="155"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Sand Rat- The sand rat is also a mammal, and is a rodent.  It eats seeds, and belongs to the Gerbil family.  Sand Rats are usually found in Algeri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dewinder- The sidewinder is a reptile, and part of the pit vipers family.  The sidewinder eats small mammals and is found in the southwestern region of the United States.</a:t>
            </a:r>
            <a:endParaRPr b="0" lang="en-US" sz="2000" spc="-1" strike="noStrike">
              <a:solidFill>
                <a:srgbClr val="ffffff"/>
              </a:solidFill>
              <a:latin typeface="Arial"/>
            </a:endParaRPr>
          </a:p>
        </p:txBody>
      </p:sp>
      <p:pic>
        <p:nvPicPr>
          <p:cNvPr id="156" name="Picture 11" descr="Dingo_Australia_Zoo_QLD"/>
          <p:cNvPicPr/>
          <p:nvPr/>
        </p:nvPicPr>
        <p:blipFill>
          <a:blip r:embed="rId1"/>
          <a:stretch/>
        </p:blipFill>
        <p:spPr>
          <a:xfrm>
            <a:off x="685800" y="304920"/>
            <a:ext cx="1433520" cy="1106280"/>
          </a:xfrm>
          <a:prstGeom prst="rect">
            <a:avLst/>
          </a:prstGeom>
          <a:ln w="0">
            <a:noFill/>
          </a:ln>
        </p:spPr>
      </p:pic>
      <p:pic>
        <p:nvPicPr>
          <p:cNvPr id="157" name="Picture 13" descr="Fat-sand-rat"/>
          <p:cNvPicPr/>
          <p:nvPr/>
        </p:nvPicPr>
        <p:blipFill>
          <a:blip r:embed="rId2"/>
          <a:srcRect l="15998" t="11108" r="0" b="7396"/>
          <a:stretch/>
        </p:blipFill>
        <p:spPr>
          <a:xfrm>
            <a:off x="7086600" y="304920"/>
            <a:ext cx="1619280" cy="1042920"/>
          </a:xfrm>
          <a:prstGeom prst="rect">
            <a:avLst/>
          </a:prstGeom>
          <a:ln w="0">
            <a:noFill/>
          </a:ln>
        </p:spPr>
      </p:pic>
      <p:pic>
        <p:nvPicPr>
          <p:cNvPr id="158" name="Picture 15" descr="australian-desert-animals-2"/>
          <p:cNvPicPr/>
          <p:nvPr/>
        </p:nvPicPr>
        <p:blipFill>
          <a:blip r:embed="rId3"/>
          <a:stretch/>
        </p:blipFill>
        <p:spPr>
          <a:xfrm>
            <a:off x="838080" y="5257800"/>
            <a:ext cx="1752840" cy="1177920"/>
          </a:xfrm>
          <a:prstGeom prst="rect">
            <a:avLst/>
          </a:prstGeom>
          <a:ln w="0">
            <a:noFill/>
          </a:ln>
        </p:spPr>
      </p:pic>
      <p:pic>
        <p:nvPicPr>
          <p:cNvPr id="159" name="Picture 17" descr="sidewinder">
            <a:hlinkClick r:id="rId4"/>
          </p:cNvPr>
          <p:cNvPicPr/>
          <p:nvPr/>
        </p:nvPicPr>
        <p:blipFill>
          <a:blip r:embed="rId5"/>
          <a:stretch/>
        </p:blipFill>
        <p:spPr>
          <a:xfrm>
            <a:off x="3352680" y="5334120"/>
            <a:ext cx="1276560" cy="1155600"/>
          </a:xfrm>
          <a:prstGeom prst="rect">
            <a:avLst/>
          </a:prstGeom>
          <a:ln w="0">
            <a:noFill/>
          </a:ln>
        </p:spPr>
      </p:pic>
    </p:spTree>
  </p:cSld>
  <p:transition spd="slow" advTm="5000">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56"/>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2000" fill="hold"/>
                                        <p:tgtEl>
                                          <p:spTgt spid="157"/>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2000" fill="hold"/>
                                        <p:tgtEl>
                                          <p:spTgt spid="158"/>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imal Adaptations</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ls need to be able to not drink for a long time, so they eat seeds with water in them. When an animal lives in a desert it’s helpful to eat seeds because the desert is dry and its hard to find water, so they drink the water from the seeds they eat, and can still survive.  </a:t>
            </a:r>
            <a:endParaRPr b="0" lang="en-US" sz="2400" spc="-1" strike="noStrike">
              <a:solidFill>
                <a:srgbClr val="ffffff"/>
              </a:solidFill>
              <a:latin typeface="Arial"/>
            </a:endParaRPr>
          </a:p>
        </p:txBody>
      </p:sp>
      <p:sp>
        <p:nvSpPr>
          <p:cNvPr id="162"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5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ts hot during the day, so most animals might come out at night when its cooler (this is called being “nocturnal”).</a:t>
            </a:r>
            <a:endParaRPr b="0" lang="en-US" sz="2300" spc="-1" strike="noStrike">
              <a:solidFill>
                <a:srgbClr val="ffffff"/>
              </a:solidFill>
              <a:latin typeface="Arial"/>
            </a:endParaRPr>
          </a:p>
          <a:p>
            <a:pPr marL="343080" indent="-343080">
              <a:lnSpc>
                <a:spcPct val="90000"/>
              </a:lnSpc>
              <a:spcBef>
                <a:spcPts val="5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Coming out at night or staying underground helps animals because they may not be able to take the heat, so this keeps them cool at night when they are hunting, or resting.</a:t>
            </a:r>
            <a:endParaRPr b="0" lang="en-US" sz="2300" spc="-1" strike="noStrike">
              <a:solidFill>
                <a:srgbClr val="ffffff"/>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163" name="" descr="">
            <a:hlinkClick r:id="rId1"/>
          </p:cNvPr>
          <p:cNvPicPr/>
          <p:nvPr/>
        </p:nvPicPr>
        <p:blipFill>
          <a:blip r:embed="rId2"/>
          <a:stretch/>
        </p:blipFill>
        <p:spPr>
          <a:xfrm>
            <a:off x="7391520" y="0"/>
            <a:ext cx="1557360" cy="1557360"/>
          </a:xfrm>
          <a:prstGeom prst="rect">
            <a:avLst/>
          </a:prstGeom>
          <a:ln w="0">
            <a:noFill/>
          </a:ln>
        </p:spPr>
      </p:pic>
      <p:pic>
        <p:nvPicPr>
          <p:cNvPr id="164" name="" descr="">
            <a:hlinkClick r:id="rId3"/>
          </p:cNvPr>
          <p:cNvPicPr/>
          <p:nvPr/>
        </p:nvPicPr>
        <p:blipFill>
          <a:blip r:embed="rId4"/>
          <a:stretch/>
        </p:blipFill>
        <p:spPr>
          <a:xfrm>
            <a:off x="1676520" y="5334120"/>
            <a:ext cx="1733400" cy="1307880"/>
          </a:xfrm>
          <a:prstGeom prst="rect">
            <a:avLst/>
          </a:prstGeom>
          <a:ln w="0">
            <a:noFill/>
          </a:ln>
        </p:spPr>
      </p:pic>
      <p:pic>
        <p:nvPicPr>
          <p:cNvPr id="165" name="" descr="">
            <a:hlinkClick r:id="rId5"/>
          </p:cNvPr>
          <p:cNvPicPr/>
          <p:nvPr/>
        </p:nvPicPr>
        <p:blipFill>
          <a:blip r:embed="rId6"/>
          <a:stretch/>
        </p:blipFill>
        <p:spPr>
          <a:xfrm>
            <a:off x="457200" y="0"/>
            <a:ext cx="1117440" cy="1467000"/>
          </a:xfrm>
          <a:prstGeom prst="rect">
            <a:avLst/>
          </a:prstGeom>
          <a:ln w="0">
            <a:noFill/>
          </a:ln>
        </p:spPr>
      </p:pic>
    </p:spTree>
  </p:cSld>
  <p:transition spd="slow" advTm="5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we do to the Deserts</a:t>
            </a:r>
            <a:endParaRPr b="0" lang="en-US" sz="4400" spc="-1" strike="noStrike">
              <a:solidFill>
                <a:srgbClr val="e3e3ff"/>
              </a:solidFill>
              <a:latin typeface="Arial"/>
            </a:endParaRPr>
          </a:p>
        </p:txBody>
      </p:sp>
      <p:sp>
        <p:nvSpPr>
          <p:cNvPr id="167" name="PlaceHolder 2"/>
          <p:cNvSpPr>
            <a:spLocks noGrp="1"/>
          </p:cNvSpPr>
          <p:nvPr>
            <p:ph/>
          </p:nvPr>
        </p:nvSpPr>
        <p:spPr>
          <a:xfrm>
            <a:off x="533520" y="1523880"/>
            <a:ext cx="8229600" cy="4525920"/>
          </a:xfrm>
          <a:prstGeom prst="rect">
            <a:avLst/>
          </a:prstGeom>
          <a:noFill/>
          <a:ln w="0">
            <a:noFill/>
          </a:ln>
        </p:spPr>
        <p:txBody>
          <a:bodyPr anchor="t">
            <a:normAutofit/>
          </a:bodyPr>
          <a:p>
            <a:pPr marL="343080" indent="-343080">
              <a:lnSpc>
                <a:spcPct val="15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mans live in some deserts, and they need as much nutrients as everyone else, but it’s a bit harder to find. </a:t>
            </a:r>
            <a:endParaRPr b="0" lang="en-US" sz="1800" spc="-1" strike="noStrike">
              <a:solidFill>
                <a:srgbClr val="ffffff"/>
              </a:solidFill>
              <a:latin typeface="Arial"/>
            </a:endParaRPr>
          </a:p>
          <a:p>
            <a:pPr marL="343080" indent="-343080">
              <a:lnSpc>
                <a:spcPct val="15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Thar desert, studies have shown that animal/human population is up, but vegetation is down. Uncontrolled grazing and large population is making the soil infertile, and destroying the ecosystem.</a:t>
            </a:r>
            <a:endParaRPr b="0" lang="en-US" sz="1800" spc="-1" strike="noStrike">
              <a:solidFill>
                <a:srgbClr val="ffffff"/>
              </a:solidFill>
              <a:latin typeface="Arial"/>
            </a:endParaRPr>
          </a:p>
          <a:p>
            <a:pPr marL="343080" indent="-343080">
              <a:lnSpc>
                <a:spcPct val="15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humans we hurt the desert by over-using water.  If we used less water, then there would be more to populate the desert.</a:t>
            </a:r>
            <a:endParaRPr b="0" lang="en-US" sz="1800" spc="-1" strike="noStrike">
              <a:solidFill>
                <a:srgbClr val="ffffff"/>
              </a:solidFill>
              <a:latin typeface="Arial"/>
            </a:endParaRPr>
          </a:p>
          <a:p>
            <a:pPr marL="343080" indent="-343080">
              <a:lnSpc>
                <a:spcPct val="15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humans drive through the desert and build roads over its natural environment.  If we volunteered to clean the deserts, and protect the natural resources we can still enjoy its natural beauty.</a:t>
            </a:r>
            <a:endParaRPr b="0" lang="en-US" sz="1800" spc="-1" strike="noStrike">
              <a:solidFill>
                <a:srgbClr val="ffffff"/>
              </a:solidFill>
              <a:latin typeface="Arial"/>
            </a:endParaRPr>
          </a:p>
        </p:txBody>
      </p:sp>
      <p:pic>
        <p:nvPicPr>
          <p:cNvPr id="168" name="" descr="">
            <a:hlinkClick r:id="rId1"/>
          </p:cNvPr>
          <p:cNvPicPr/>
          <p:nvPr/>
        </p:nvPicPr>
        <p:blipFill>
          <a:blip r:embed="rId2"/>
          <a:srcRect l="13783" t="18004" r="10362" b="19108"/>
          <a:stretch/>
        </p:blipFill>
        <p:spPr>
          <a:xfrm>
            <a:off x="6400800" y="5486400"/>
            <a:ext cx="1905120" cy="1212840"/>
          </a:xfrm>
          <a:prstGeom prst="rect">
            <a:avLst/>
          </a:prstGeom>
          <a:ln w="0">
            <a:noFill/>
          </a:ln>
        </p:spPr>
      </p:pic>
      <p:pic>
        <p:nvPicPr>
          <p:cNvPr id="169" name="" descr="">
            <a:hlinkClick r:id="rId3"/>
          </p:cNvPr>
          <p:cNvPicPr/>
          <p:nvPr/>
        </p:nvPicPr>
        <p:blipFill>
          <a:blip r:embed="rId4"/>
          <a:stretch/>
        </p:blipFill>
        <p:spPr>
          <a:xfrm>
            <a:off x="304920" y="304920"/>
            <a:ext cx="1371600" cy="1082520"/>
          </a:xfrm>
          <a:prstGeom prst="rect">
            <a:avLst/>
          </a:prstGeom>
          <a:ln w="0">
            <a:noFill/>
          </a:ln>
        </p:spPr>
      </p:pic>
    </p:spTree>
  </p:cSld>
  <p:transition spd="slow" advTm="5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mercial Value</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can be many things found useful in  a desert.  For instance in Utah, some materials have help make jet fuel.  Also in the Arabian desert; oil, natural gas, phosphates, and sulfur can be found.  Beans and seeds are full of more protein than regular beans that are usually bought by the can.  Also gum Arabic is used to get gum from trees in Africa, making it useful for gum makers.  Simmondsia chinensis grows in deserts and helps to produce essential oil.</a:t>
            </a:r>
            <a:endParaRPr b="0" lang="en-US" sz="2800" spc="-1" strike="noStrike">
              <a:solidFill>
                <a:srgbClr val="ffffff"/>
              </a:solidFill>
              <a:latin typeface="Arial"/>
            </a:endParaRPr>
          </a:p>
        </p:txBody>
      </p:sp>
      <p:pic>
        <p:nvPicPr>
          <p:cNvPr id="172" name="Picture 5" descr="utah">
            <a:hlinkClick r:id="rId1"/>
          </p:cNvPr>
          <p:cNvPicPr/>
          <p:nvPr/>
        </p:nvPicPr>
        <p:blipFill>
          <a:blip r:embed="rId2"/>
          <a:stretch/>
        </p:blipFill>
        <p:spPr>
          <a:xfrm>
            <a:off x="380880" y="152280"/>
            <a:ext cx="1514520" cy="1424160"/>
          </a:xfrm>
          <a:prstGeom prst="rect">
            <a:avLst/>
          </a:prstGeom>
          <a:ln w="0">
            <a:noFill/>
          </a:ln>
        </p:spPr>
      </p:pic>
      <p:pic>
        <p:nvPicPr>
          <p:cNvPr id="173" name="Picture 7" descr="oil_barrel">
            <a:hlinkClick r:id="rId3"/>
          </p:cNvPr>
          <p:cNvPicPr/>
          <p:nvPr/>
        </p:nvPicPr>
        <p:blipFill>
          <a:blip r:embed="rId4"/>
          <a:stretch/>
        </p:blipFill>
        <p:spPr>
          <a:xfrm>
            <a:off x="7238880" y="304920"/>
            <a:ext cx="905040" cy="1190520"/>
          </a:xfrm>
          <a:prstGeom prst="rect">
            <a:avLst/>
          </a:prstGeom>
          <a:ln w="0">
            <a:noFill/>
          </a:ln>
        </p:spPr>
      </p:pic>
      <p:pic>
        <p:nvPicPr>
          <p:cNvPr id="174" name="Picture 9" descr="Arabic_Gum">
            <a:hlinkClick r:id="rId5"/>
          </p:cNvPr>
          <p:cNvPicPr/>
          <p:nvPr/>
        </p:nvPicPr>
        <p:blipFill>
          <a:blip r:embed="rId6"/>
          <a:stretch/>
        </p:blipFill>
        <p:spPr>
          <a:xfrm>
            <a:off x="7010280" y="304920"/>
            <a:ext cx="1562400" cy="1247760"/>
          </a:xfrm>
          <a:prstGeom prst="rect">
            <a:avLst/>
          </a:prstGeom>
          <a:ln w="0">
            <a:noFill/>
          </a:ln>
        </p:spPr>
      </p:pic>
      <p:pic>
        <p:nvPicPr>
          <p:cNvPr id="175" name="Picture 11" descr="jojoba_Simmondsia_chinensis">
            <a:hlinkClick r:id="rId7"/>
          </p:cNvPr>
          <p:cNvPicPr/>
          <p:nvPr/>
        </p:nvPicPr>
        <p:blipFill>
          <a:blip r:embed="rId8"/>
          <a:stretch/>
        </p:blipFill>
        <p:spPr>
          <a:xfrm>
            <a:off x="609480" y="380880"/>
            <a:ext cx="1181160" cy="1181160"/>
          </a:xfrm>
          <a:prstGeom prst="rect">
            <a:avLst/>
          </a:prstGeom>
          <a:ln w="0">
            <a:noFill/>
          </a:ln>
        </p:spPr>
      </p:pic>
    </p:spTree>
  </p:cSld>
  <p:transition spd="slow" advTm="5000">
    <p:wedg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74"/>
                                        </p:tgtEl>
                                        <p:attrNameLst>
                                          <p:attrName>style.visibility</p:attrName>
                                        </p:attrNameLst>
                                      </p:cBhvr>
                                      <p:to>
                                        <p:strVal val="visible"/>
                                      </p:to>
                                    </p:set>
                                    <p:animEffect filter="box(in)" transition="in">
                                      <p:cBhvr additive="repl">
                                        <p:cTn id="25" dur="500"/>
                                        <p:tgtEl>
                                          <p:spTgt spid="17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path" presetID="0">
                                  <p:stCondLst>
                                    <p:cond delay="0"/>
                                  </p:stCondLst>
                                  <p:childTnLst>
                                    <p:animMotion origin="layout" path="M 1.38889E-006 3.23699E-006 C 0.00625 0.00832 0.01285 0.01503 0.0191 0.02335 C 0.02396 0.02982 0.02639 0.04092 0.03021 0.04855 C 0.03281 0.05896 0.03715 0.06751 0.03976 0.07815 C 0.04028 0.08023 0.0408 0.08254 0.04132 0.08462 C 0.04184 0.0867 0.04236 0.08878 0.04288 0.09086 C 0.0434 0.09294 0.04445 0.09734 0.04445 0.09734 C 0.04584 0.11699 0.04965 0.13294 0.05243 0.15214 C 0.05417 0.16416 0.05417 0.17664 0.05729 0.1882 C 0.05677 0.21849 0.0566 0.24878 0.05556 0.27907 C 0.05538 0.28254 0.05122 0.29896 0.05087 0.29988 C 0.04618 0.32162 0.04844 0.31537 0.0382 0.32971 C 0.02726 0.34474 0.01702 0.36069 0.00643 0.37618 C -0.00017 0.38612 -0.01024 0.4067 -0.02048 0.41017 C -0.04132 0.43399 -0.02205 0.41318 -0.05382 0.44185 C -0.06528 0.45225 -0.07118 0.45849 -0.08403 0.46289 C -0.11146 0.48254 -0.12378 0.49526 -0.15225 0.49896 C -0.24548 0.53896 -0.34809 0.50034 -0.446 0.49896 C -0.45746 0.49873 -0.46979 0.49364 -0.4809 0.4904 C -0.48628 0.48878 -0.4967 0.48416 -0.4967 0.48416 C -0.50295 0.47861 -0.50955 0.47306 -0.51423 0.46497 C -0.51771 0.45896 -0.52378 0.44601 -0.52378 0.44601 C -0.52621 0.43607 -0.52864 0.42913 -0.53003 0.41849 C -0.52951 0.4037 -0.52934 0.3889 -0.52847 0.3741 C -0.52812 0.36716 -0.52569 0.36763 -0.52378 0.36138 C -0.52187 0.35514 -0.52048 0.34867 -0.51892 0.34242 C -0.51736 0.33618 -0.51371 0.31977 -0.51111 0.31283 C -0.5066 0.30104 -0.50017 0.29063 -0.49514 0.27907 C -0.49427 0.27722 -0.49462 0.27445 -0.49357 0.2726 C -0.4908 0.26797 -0.48698 0.26451 -0.48403 0.26011 C -0.47743 0.25017 -0.47135 0.23838 -0.46493 0.2282 C -0.46163 0.22289 -0.45885 0.21664 -0.45555 0.21133 C -0.44896 0.20046 -0.44184 0.19029 -0.43489 0.17965 C -0.43038 0.17271 -0.41302 0.15745 -0.40469 0.15005 C -0.39722 0.14335 -0.38663 0.13919 -0.37778 0.13526 C -0.37587 0.13433 -0.37465 0.13225 -0.37291 0.1311 C -0.36076 0.12323 -0.34722 0.1193 -0.33489 0.11214 C -0.30191 0.09294 -0.33767 0.10867 -0.2967 0.09294 C -0.28837 0.08971 -0.2809 0.083 -0.27291 0.07815 C -0.2618 0.07121 -0.25121 0.06982 -0.23958 0.06774 C -0.21545 0.05826 -0.19653 0.05318 -0.17135 0.04855 C -0.15937 0.04323 -0.146 0.04462 -0.13333 0.04231 C -0.11198 0.02844 -0.08819 0.02404 -0.06493 0.01896 C -0.05868 0.01618 -0.0526 0.01225 -0.046 0.01063 C -0.03177 0.00693 -0.01719 0.00347 -0.00469 -0.00625 C -0.00121 0.00046 -0.00347 3.23699E-006 1.38889E-006 3.23699E-006 Z">
                                      <p:cBhvr>
                                        <p:cTn id="29" dur="2000" fill="hold"/>
                                        <p:tgtEl>
                                          <p:spTgt spid="174"/>
                                        </p:tgtEl>
                                      </p:cBhvr>
                                    </p:animMotion>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75"/>
                                        </p:tgtEl>
                                        <p:attrNameLst>
                                          <p:attrName>style.visibility</p:attrName>
                                        </p:attrNameLst>
                                      </p:cBhvr>
                                      <p:to>
                                        <p:strVal val="visible"/>
                                      </p:to>
                                    </p:set>
                                    <p:animEffect filter="blinds(horizontal)" transition="in">
                                      <p:cBhvr additive="repl">
                                        <p:cTn id="34" dur="500"/>
                                        <p:tgtEl>
                                          <p:spTgt spid="17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path" presetID="0">
                                  <p:stCondLst>
                                    <p:cond delay="0"/>
                                  </p:stCondLst>
                                  <p:childTnLst>
                                    <p:animMotion origin="layout" path="M 1.66667E-006 1.84971E-006 C 0.0276 -0.0104 0.05417 -0.01688 0.08246 -0.02104 C 0.12708 -0.01965 0.17899 -0.02774 0.22517 -0.01272 C 0.24253 -0.00116 0.26232 0.00139 0.27934 0.01272 C 0.2941 0.02266 0.30191 0.02867 0.31736 0.03168 C 0.32847 0.03792 0.33732 0.04624 0.34913 0.05087 C 0.35851 0.06012 0.37309 0.07098 0.38403 0.07838 C 0.38837 0.08116 0.39722 0.08301 0.40156 0.08671 C 0.42048 0.10312 0.43507 0.12555 0.45694 0.13526 C 0.47222 0.15145 0.48316 0.17503 0.4934 0.19676 C 0.50868 0.22913 0.52222 0.26035 0.53333 0.29595 C 0.53507 0.30844 0.53767 0.32139 0.53941 0.33411 C 0.54097 0.34382 0.54271 0.3637 0.54271 0.3637 C 0.54167 0.40254 0.54201 0.44139 0.53941 0.48 C 0.53923 0.48555 0.53177 0.48509 0.52847 0.48832 C 0.51857 0.49711 0.50885 0.50567 0.49982 0.51584 C 0.44271 0.58035 0.45035 0.58497 0.39826 0.61942 C 0.39392 0.62243 0.39062 0.6289 0.38559 0.63006 C 0.34219 0.64046 0.36232 0.6363 0.32535 0.64278 C 0.31111 0.64069 0.29635 0.64093 0.28246 0.6363 C 0.27482 0.63376 0.2691 0.62543 0.2618 0.6215 C 0.23785 0.60879 0.21649 0.5785 0.20295 0.5496 C 0.19375 0.52971 0.19045 0.50913 0.1809 0.49041 C 0.17812 0.47838 0.17604 0.46636 0.17274 0.45457 C 0.17118 0.44902 0.16944 0.44347 0.16823 0.43769 C 0.16319 0.41595 0.16042 0.39306 0.15382 0.37202 C 0.1467 0.34821 0.13472 0.31954 0.13003 0.29387 C 0.12187 0.24856 0.12239 0.19884 0.11111 0.15445 C 0.10868 0.14451 0.09531 0.13965 0.09045 0.13318 C 0.08038 0.11977 0.07187 0.10428 0.0618 0.09087 C 0.0592 0.0874 0.05764 0.08254 0.05555 0.07838 C 0.05156 0.07052 0.04601 0.05295 0.04601 0.05295 C 0.0441 0.04278 0.04288 0.04162 0.03646 0.03607 C 0.03385 0.02913 0.02795 0.01133 0.02378 0.00648 C 0.02083 0.00301 0.01736 0.00069 0.01423 -0.00208 C 0.01285 -0.00324 0.00955 -0.00416 0.00955 -0.00416 L -0.02865 -0.03168 L 0.02222 -0.06543 L 0.01267 -0.00416 E">
                                      <p:cBhvr>
                                        <p:cTn id="38" dur="2000" fill="hold"/>
                                        <p:tgtEl>
                                          <p:spTgt spid="1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9:13:50Z</dcterms:created>
  <dc:creator>John Truesdell</dc:creator>
  <dc:description/>
  <dc:language>en-US</dc:language>
  <cp:lastModifiedBy>xpstudent</cp:lastModifiedBy>
  <dcterms:modified xsi:type="dcterms:W3CDTF">2010-10-28T12:18:23Z</dcterms:modified>
  <cp:revision>59</cp:revision>
  <dc:subject/>
  <dc:title>Slide 1</dc:title>
</cp:coreProperties>
</file>